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AF1C-259F-4DAB-9CC6-6AE71CF4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CDCA-9E03-4B52-9573-194A2EA9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F6C1-6569-4A5A-AAA3-48EB5317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8EEF-B628-4C00-9A61-026F6E46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0C34-1D8C-4B7F-8A7B-96815572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5FE5-AD64-47EB-B6EB-5F8D45CF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0506-EF0E-435C-8F8F-B6E24B41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F583-3641-4E79-B5F5-1997C79B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D648-0585-4165-BEAD-FB7C626B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015A-11C0-495C-B525-8D7E1309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4A91-B53D-422D-9123-90468174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8EF2-71B8-44D8-AAC4-2FD89BB4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3345-6E52-4C4E-ADF9-DC30B8DFD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st Like Josh Gibs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nics and Spell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24080" y="3352680"/>
            <a:ext cx="2629080" cy="2630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1422360" cy="1851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391520" y="228600"/>
            <a:ext cx="142236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y Phonics – 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Hide and Seek (Decodable Reader 26).  List the contractions in the story and the words the contraction stands f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ntr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first wo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2004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7632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2590920"/>
            <a:ext cx="7596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Phonics – Da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se words in the correct column for spelling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taught</a:t>
            </a: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   talk</a:t>
            </a: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     launch</a:t>
            </a: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d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August   fault</a:t>
            </a: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     chalk   </a:t>
            </a: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s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caught   launch   th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au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a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</a:t>
            </a: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49528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41911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1911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41911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 Reading – Day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cc"/>
                </a:solidFill>
                <a:latin typeface="Arial"/>
              </a:rPr>
              <a:t>I guess you saw the pretty wha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Did you see them laugh in math and scienc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We watch those dolphins and wish they were pe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Arial"/>
              </a:rPr>
              <a:t>That photo of a bunch of shrimp won the conte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0093"/>
                </a:solidFill>
                <a:latin typeface="Arial"/>
              </a:rPr>
              <a:t>The garden patch near the village has enough flow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My shoe is rough, and my foots starts to itch when I wear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ction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ad the sentence and circle the spelling wo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Don’t you know if they’re here ye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 don’t see it – I should’ve found it by n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Arial"/>
              </a:rPr>
              <a:t>Don’t ask them if they’d been t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I would’ve called you but you’d just left the ho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00:48:35Z</dcterms:created>
  <dc:creator> </dc:creator>
  <dc:description/>
  <dc:language>en-US</dc:language>
  <cp:lastModifiedBy> </cp:lastModifiedBy>
  <dcterms:modified xsi:type="dcterms:W3CDTF">2008-03-26T01:04:33Z</dcterms:modified>
  <cp:revision>2</cp:revision>
  <dc:subject/>
  <dc:title>Apply Phonics – Day 1</dc:title>
</cp:coreProperties>
</file>